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861E-C8E5-407F-9835-E6A3C1F92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557D-33CE-469D-BAD7-926DA8E1C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B8CD-50A5-4C52-8ECF-ADFA3482A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267A-7552-47C9-BA52-7008AAACD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8306-A1E4-486B-A712-C8E5A65BD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F815-EA2D-49EB-9C47-E16A76B41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DFF9-B765-46E2-AA04-E20C346D2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8D28-D11C-4492-A7A2-2BDAE94F8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1855-FA42-4BAA-9B63-49E3F497B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2207-29EE-4299-85FE-3196EBD86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0AA0-47D9-4771-97CD-86DBC2445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EA5A-8799-47E4-8BB6-05A1F2D34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8F9C-D090-4A8F-A9A1-CF2907185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6FF5-0871-4331-9BEC-42EF0F080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BF06-DA7D-412C-B3C4-AD35C12E8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B189-B9F1-4E74-A36B-7A5C0CF5B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24F3-D68C-4233-826D-E5D485BF8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BE8A-86A4-4B72-ACD7-2E04A797B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BCFF-43C6-4BD1-B410-ADD4EAD7C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11A5-CECC-4781-BF6F-BF5A9C74F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6267-4CFA-47AB-B6D8-90DE9DC81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8E38-393C-4604-A96A-37963A5AF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514B-2C1A-4774-93AA-CB6849690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D25F-63ED-42BE-A08F-F065F94C5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45FB-C0B0-4E4B-970A-299EE9ADA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EE2A-549A-4ACC-A9DA-6E5CBC620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3F2D-B93D-44DE-A94D-8D7099346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B273-6550-4401-9207-50F338B1D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E886-52AE-43D2-A40B-7F641A5E5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076F-E5C2-4841-971D-ED252C704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A14B-6084-491F-87B1-2B35DA1A0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46F7-131B-4C38-925C-FF0C31FFE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19FC-E8E1-4071-9FBE-A1912DC41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E9B5-617C-4449-A4E5-64CFE0D22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F641-2FC0-4BCB-B2C8-7DAD241D4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F49E-1D38-433A-9A4D-ABAE11D84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AA66-111F-4F82-B34D-BD97415A3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5718-C53A-4A79-AEB4-96FB1930F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0C34-9195-49C6-AA21-58CDD6771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B34F-C49C-4D80-B59D-BDE85B464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20D2-261E-4CC1-AD8A-6F722155B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EE2E-3A10-481C-9489-62BDA26D3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AA27-B358-4CFD-B83B-ECECAB466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2505-C258-4FE8-AD81-7CB3B7931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33C5-CCF1-4838-951F-1DC1DD70C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CDF8-285D-4AAA-B11C-66B7C4D68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261E-DAA1-4AFE-931F-67152861E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4A69-B2BB-49BF-9669-6018A1F70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82D8-075E-497C-A9E7-1031E881C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F024-1EC1-4550-81E8-A4B3E5774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CF00-49F8-4938-AD23-09C8158F2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7C13-4360-4E92-AAA1-DC6AECFD4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F9F-BB9C-49A4-A030-6E457F0E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A0C-A867-4C5F-9ECC-4E6A9D76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3CE9-9190-4AE3-9AA1-8BD4D234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182-0282-413A-92DA-12E7262A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22C2-7E0C-4AA9-93DB-8035A3C0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2CE-306B-441D-9B47-E688ED22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F64-176B-425D-A6CF-6116004D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991-AD5E-46C5-90E3-AD5F7DAE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F772-79DC-4190-B97D-EF2FBAF5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51F-7048-4DEA-B928-DF797BBD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748E-BD22-4416-94DC-172DAC06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0EB-F743-4DBC-B53D-F208FADC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9A12-3D7F-49F8-94EF-3A6181A6F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/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7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arli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tt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lan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loni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i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s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the very first form of Democracy and how did it wo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the League of Iroquois Nations/Five Tribes; the settled disputes peacefully with representatives from each trib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035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id the original colonists leave England and the King’s strict ru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Religious Persec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re did the colonists first settle and when(year/date)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Jamestown, Virginia in 1607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03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 the conditions in Plymouth, Mass. that the Colonists had in 1620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mountainous land, rocky and bad soil, cold and short growing seaso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057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764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ere the first Europeans in Pennsylv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ere the Dutch and the Swed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057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ere the two main Native American Tribes in Pennsylvania when the Colonists arriv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orld famous custom did the Swedes introdu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Saint Nicholas, or present day Santa Clau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3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ame the 4 major States that made up the original Mid Atlantic Colon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Delaware, Pennsylvania, New York, and New Jerse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33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me three reasons why the colonists moved south to the Mid-Atlantic Colonies from New England/ma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better soil, warmer climate, better land for farming (no mountains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hub of trading and commerce in Pennsylvani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rt of Philadelphia was located on the Delaware Riv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e first settlers in the Mid-Atlantic Colonies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England, France, Spain. Sweden, and the Dutch from Hollan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ere the Algonquins and Iroquo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wo things of importance did the Dutch leave the colon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how to build log cabins and introducing cow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8576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William Penn aquire his 27 million acres in North Americ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a debt The King owed his fathe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Pennsylvania me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enn’s Wood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76040" cy="73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id the Quakers belie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were non-violent and did not believe in war; they believed everyone was equ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the “Holy Experiment?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nn’s ideas for a new colony in North America with Quaker belief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be the Longhou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three main ideals did Penn want for Pennsylv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religious freedom; everyone equal rich or poor; and voice in the Govern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ere the Quakers first call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“The Society of Friends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“The Walking treaty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a contract for land between the Iroquois and William Penn’s fami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an Indentured Serv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onist who could not afford transportation to North America and had to work for 7 yea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9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07640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was Pennsylvania so divers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one was welcome no matter what race, color, or culture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ere Multi-Family dwellings for 10 to 12 Iroquois famili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lain the Pennsylvania Dutch’s Hex sig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ere colorful designs painted on barns, because they did not believe in putting colorful objects in their hom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ding without a money system was called ……………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barte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308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did the earliest Native Americans travel across to get away from the Ice Age in Europe and Asia and follow their food/gam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was the Bering Ice Brid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3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udsd</cp:lastModifiedBy>
  <dcterms:modified xsi:type="dcterms:W3CDTF">2012-11-12T21:20:03Z</dcterms:modified>
  <cp:revision>62</cp:revision>
  <dc:subject/>
  <dc:title>No Slide Title</dc:title>
</cp:coreProperties>
</file>